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0E29-535A-4648-BC14-57599693A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CECD-0CAE-4092-8C94-B922DC5D2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604A-4498-4875-A5DE-669F958EF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FD68-AA08-4649-A192-394C633DC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8247-A737-4C99-B82E-C193DB2BC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BC01-4812-47D6-88E2-BB2CE1E61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8C5D-B585-447D-B5E2-335E4E802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9409-382D-49FA-989D-D61A79FE0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DAA1-91E0-49BC-9455-175B4397A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3777-5015-425F-82D4-3B7333048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C742-769A-4546-A173-F309076F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E9C1-D0B6-41F3-B367-10ED731A8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6161-4936-4799-AA0D-0B87E95E4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E605-E4E1-4F8B-86B3-26EFCCA9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05FD-79DC-4EAC-9D8A-3C7DD468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D1AE-F9B9-469E-ADD0-9F89FEE3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7826-753F-4B29-B681-876EE429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EF21-0E42-4981-8F7E-9216E83E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A4B1-310A-4C61-8033-2FBBCD03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216A-2C89-4C93-BC74-94B3602C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2F29-8AA0-42D2-93BC-92A3E3E3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FB8A-3AE5-4E91-B777-2BE242CDF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ome.comcast.net/~dutchiebop/eggs.wav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home.comcast.net/~dutchiebop/geez.wav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home.comcast.net/~dutchiebop/Audio_Amos_Favorite_Seventies_Music.mp3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home.comcast.net/~dutchiebop/cider.wav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home.comcast.net/~dutchiebop/jfk.wav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hospitalitymagazine.com.au/.../468191.aspx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3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NOTE PRESENTA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view with Amos Wartluft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ed by Heidi Swa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PCT1449"/>
          <p:cNvPicPr/>
          <p:nvPr/>
        </p:nvPicPr>
        <p:blipFill>
          <a:blip r:embed="rId1"/>
          <a:stretch/>
        </p:blipFill>
        <p:spPr>
          <a:xfrm>
            <a:off x="3124080" y="1676520"/>
            <a:ext cx="29592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s Wartluft is from the Pennsylvania Dutch Country of Lancaster County, Pennsylvani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The Amish At Work "/>
          <p:cNvPicPr/>
          <p:nvPr/>
        </p:nvPicPr>
        <p:blipFill>
          <a:blip r:embed="rId1"/>
          <a:stretch/>
        </p:blipFill>
        <p:spPr>
          <a:xfrm>
            <a:off x="228600" y="1371600"/>
            <a:ext cx="3429000" cy="1897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map2"/>
          <p:cNvPicPr/>
          <p:nvPr/>
        </p:nvPicPr>
        <p:blipFill>
          <a:blip r:embed="rId2"/>
          <a:stretch/>
        </p:blipFill>
        <p:spPr>
          <a:xfrm>
            <a:off x="3886200" y="2133720"/>
            <a:ext cx="4876920" cy="43606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8"/>
          <p:cNvSpPr/>
          <p:nvPr/>
        </p:nvSpPr>
        <p:spPr>
          <a:xfrm>
            <a:off x="228600" y="350532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 continues the tradition of farming.  It is important for him to live in a rural environment in order to follow the lifestyle of his convi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You Like Your Egg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egg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76520" y="213372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an you tell us about the changing of seasons where you l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snow-gees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2209680"/>
            <a:ext cx="52387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your favorite music from the sevent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wpf54bebf8_0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1676520"/>
            <a:ext cx="34290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you give us a tip for making apple ci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cid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1523880"/>
            <a:ext cx="43304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you think of convertib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PrezCarJFK%27s-T-Bir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905120"/>
            <a:ext cx="762012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acks in egg safety knowledge. (2009, February 19). Retrieved June 17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9, from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ospitalitymagazine.com.au/.../468191.aspx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in, R. (2009). Senior amish man at Ohio auction in Walnut Creek a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rmers market stock photo.  Retrieved June 17, 2009, from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ww.worldofstock.com/closeups/PCT1449.ph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t maple apple cider. (2008, January).  Retrieved June 17, 2009, from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ww.sover.net/~buckholl/january2008.ht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caster County- a great place to live! (n.d.) Retrieved June 17, 2009, from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stonebldg.com/lancaster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e your feet to the ’60s and ’70s beat. (2008). Retrieved June 17, 2009, from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ww.thevintagecorporation.co.uk/page38.ht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ott, J. (2005, July 17).  V-formation flight of birds.  Retrieved June 17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9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 www.aerospaceweb.org/question/Nature/q0237.s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Amish and the plain people.  (2008).  Retrieved June 17, 2009, from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800padutch.com/amish.s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drives American presidents.  (2008, October 22).  Retrieved June 17, 2009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 http://weblog.signonsandiego.com/weblog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rage/2008/10/what_drives_american_president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7T14:40:06Z</dcterms:created>
  <dc:creator>Mooreland Heights Elementary School </dc:creator>
  <dc:description/>
  <dc:language>en-US</dc:language>
  <cp:lastModifiedBy>MComer</cp:lastModifiedBy>
  <dcterms:modified xsi:type="dcterms:W3CDTF">2011-06-21T16:10:05Z</dcterms:modified>
  <cp:revision>17</cp:revision>
  <dc:subject/>
  <dc:title>Slide 1</dc:title>
</cp:coreProperties>
</file>